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834-90EC-4A6B-ACAC-CBB61FA8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0FA-1767-4D32-A149-61D54EB8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546-B006-4F48-9868-CDFABF31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989-EA7C-47B7-96E6-1F73DDF5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D10-D27C-4E82-AE17-FF909D75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D6CF-A0AB-4BFF-811A-755268C6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3C3D-7D3D-4C4D-824C-C03FEB0B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399-588E-4ECA-91A9-9F32EBAF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6C2-7C45-4F72-AB5C-2A88B89D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031-D889-4C21-A7E7-5E677FCF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4F1-1D04-4FA9-9DB3-D35A7B1F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D1B-D8C0-4E7A-9D48-4675080E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CF1A-1683-439E-9055-B7D33E896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d_Scare" TargetMode="External"/><Relationship Id="rId2" Type="http://schemas.openxmlformats.org/officeDocument/2006/relationships/hyperlink" Target="http://en.wikipedia.org/wiki/Red_Scare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http://rds.yahoo.com/S=96062883/K=Cold+War/v=2/SID=e/TID=I001_70/l=IVS/SIG=12b80gqlr/EXP=1105739405/*-http%3A//www.mr.nava.teach-nology.com/images/cold_war.jpg"/>
          <p:cNvPicPr/>
          <p:nvPr/>
        </p:nvPicPr>
        <p:blipFill>
          <a:blip r:embed="rId1"/>
          <a:stretch/>
        </p:blipFill>
        <p:spPr>
          <a:xfrm>
            <a:off x="228600" y="1752480"/>
            <a:ext cx="4267080" cy="510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http://rds.yahoo.com/S=96062883/K=Crucible/v=2/SID=e/TID=I001_70/l=IVS/SIG=12eoeum60/EXP=1105739800/*-http%3A//barntheater.porterville.com/images/2003crucible.jpg"/>
          <p:cNvPicPr/>
          <p:nvPr/>
        </p:nvPicPr>
        <p:blipFill>
          <a:blip r:embed="rId2"/>
          <a:stretch/>
        </p:blipFill>
        <p:spPr>
          <a:xfrm>
            <a:off x="4648320" y="1752480"/>
            <a:ext cx="426708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WordArt 17"/>
          <p:cNvSpPr txBox="1"/>
          <p:nvPr/>
        </p:nvSpPr>
        <p:spPr>
          <a:xfrm>
            <a:off x="2514600" y="68580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Times New Roman"/>
              </a:rPr>
              <a:t>Connecting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http://rds.yahoo.com/S=96062883/K=Sting/v=2/SID=e/TID=I001_70/l=IVS/SIG=12a7o0rh0/EXP=1105742718/*-http%3A//www.swr3.de/musik/stories/sting/pix/sting_1.jpg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3352680"/>
          </a:xfrm>
          <a:prstGeom prst="rect">
            <a:avLst/>
          </a:prstGeom>
          <a:ln w="0">
            <a:noFill/>
          </a:ln>
        </p:spPr>
      </p:pic>
      <p:sp>
        <p:nvSpPr>
          <p:cNvPr id="79" name="WordArt 5"/>
          <p:cNvSpPr txBox="1"/>
          <p:nvPr/>
        </p:nvSpPr>
        <p:spPr>
          <a:xfrm>
            <a:off x="0" y="380880"/>
            <a:ext cx="39625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"Russians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y S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0" name="Picture 9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0" y="342900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Europe and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’s a growing feeling of hys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nditioned to respond to all the 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the rhetorical speeches of the Sovi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r. Khrushchev said, “We will bury you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 don’t subscribe to this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t would be such an ignorant thing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f the Russians love their children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http://rds.yahoo.com/S=96062883/K=Sting/v=2/SID=e/TID=I001_70/l=IVS/SIG=12e4agrvp/EXP=1106343493/*-http%3A//www.yehey.com/local/entertainment/images/Sting1.JPG"/>
          <p:cNvPicPr/>
          <p:nvPr/>
        </p:nvPicPr>
        <p:blipFill>
          <a:blip r:embed="rId1"/>
          <a:stretch/>
        </p:blipFill>
        <p:spPr>
          <a:xfrm>
            <a:off x="-380880" y="-380880"/>
            <a:ext cx="9524880" cy="8076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0" y="1066680"/>
            <a:ext cx="69343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w can I save my little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rom Oppenheimer’s deadly t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re is no monopoly of common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n either side of the political 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e share the sam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gardless of ide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elieve me when I say to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 hope the Russians love their children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27" descr="http://rds.yahoo.com/S=96062883/K=Ronald+Reagan/v=2/SID=e/TID=I001_70/l=IVS/SIG=12av67ro9/EXP=1106344373/*-http%3A//teachpol.tcnj.edu/Amer_pol_hist/fi/000001ee.jpg"/>
          <p:cNvPicPr/>
          <p:nvPr/>
        </p:nvPicPr>
        <p:blipFill>
          <a:blip r:embed="rId2"/>
          <a:stretch/>
        </p:blipFill>
        <p:spPr>
          <a:xfrm>
            <a:off x="0" y="0"/>
            <a:ext cx="3124080" cy="3657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1" descr="http://rds.yahoo.com/S=96062883/K=Krushchev/v=2/SID=e/TID=I001_70/l=IVS/SIG=1217dsb12/EXP=1106344525/*-http%3A//wwics.si.edu/news/images/krushchev.jpg"/>
          <p:cNvPicPr/>
          <p:nvPr/>
        </p:nvPicPr>
        <p:blipFill>
          <a:blip r:embed="rId3"/>
          <a:stretch/>
        </p:blipFill>
        <p:spPr>
          <a:xfrm>
            <a:off x="0" y="3276720"/>
            <a:ext cx="3048120" cy="4343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32"/>
          <p:cNvSpPr/>
          <p:nvPr/>
        </p:nvSpPr>
        <p:spPr>
          <a:xfrm>
            <a:off x="3557880" y="547560"/>
            <a:ext cx="5555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here is no historical prece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o put the words in the mou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of th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here’s no such t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As a winnabl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It’s a lie we don’t believe any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Mr. Reagan say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We will protect you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I don’t subscribe to this point of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Believe me when I say to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I hope the Russians l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heir children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http://rds.yahoo.com/S=96062883/K=russian+flag/v=2/SID=e/TID=I001_70/l=IVS/SIG=12hq6np2a/EXP=1106345128/*-http%3A//nonushotties.8k.com/images/main/old_russian%20flag.jpg"/>
          <p:cNvPicPr/>
          <p:nvPr/>
        </p:nvPicPr>
        <p:blipFill>
          <a:blip r:embed="rId1"/>
          <a:stretch/>
        </p:blipFill>
        <p:spPr>
          <a:xfrm>
            <a:off x="5486400" y="457200"/>
            <a:ext cx="2933640" cy="2057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http://rds.yahoo.com/S=96062883/K=United+States+flag/v=2/SID=e/TID=I001_70/l=IVS/SIG=12g5889b1/EXP=1106345167/*-http%3A//www.walshworld.net/images/united_states_flag_1024.jpg"/>
          <p:cNvPicPr/>
          <p:nvPr/>
        </p:nvPicPr>
        <p:blipFill>
          <a:blip r:embed="rId2"/>
          <a:stretch/>
        </p:blipFill>
        <p:spPr>
          <a:xfrm>
            <a:off x="228600" y="2133720"/>
            <a:ext cx="3200400" cy="2133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65040" y="345960"/>
            <a:ext cx="512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We share the sam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Regardless of ide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495680" y="2590920"/>
            <a:ext cx="4283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NJAMIN"/>
              </a:rPr>
              <a:t>What might save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NJAMIN"/>
              </a:rPr>
              <a:t>me, and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06200" y="4714920"/>
            <a:ext cx="731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Stencil"/>
              </a:rPr>
              <a:t>Is That the Russians lo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Stencil"/>
              </a:rPr>
              <a:t>their children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trial"/>
          <p:cNvPicPr/>
          <p:nvPr/>
        </p:nvPicPr>
        <p:blipFill>
          <a:blip r:embed="rId1"/>
          <a:stretch/>
        </p:blipFill>
        <p:spPr>
          <a:xfrm>
            <a:off x="380880" y="205740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WordArt 7"/>
          <p:cNvSpPr txBox="1"/>
          <p:nvPr/>
        </p:nvSpPr>
        <p:spPr>
          <a:xfrm>
            <a:off x="609480" y="228600"/>
            <a:ext cx="7467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1692 Salem Witch Trial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9" descr="Memorial Stone Bench for Sarah Good"/>
          <p:cNvPicPr/>
          <p:nvPr/>
        </p:nvPicPr>
        <p:blipFill>
          <a:blip r:embed="rId2"/>
          <a:stretch/>
        </p:blipFill>
        <p:spPr>
          <a:xfrm>
            <a:off x="5410080" y="2057400"/>
            <a:ext cx="3143520" cy="2000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4815000" y="4335480"/>
            <a:ext cx="455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This is the basis for Arth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Miller’s screenplay, </a:t>
            </a:r>
            <a:r>
              <a:rPr b="0" i="1" lang="en-US" sz="2800" spc="-1" strike="noStrike">
                <a:solidFill>
                  <a:srgbClr val="ffffff"/>
                </a:solidFill>
                <a:latin typeface="Rockwell Condensed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Rockwell Condensed"/>
              </a:rPr>
              <a:t>Crucible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. Who w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executed, why?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http://www.artsgloucester.com/witchcity/graphics/noos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0" y="923760"/>
            <a:ext cx="90583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In what year did the Salem Witch Trials take pl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Who was the first individual execu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How many were executed? Ki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How many were j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How did this hysteria beg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How could an accused “witch” escape exec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Who provided legal representation for the acc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How many confessed to witchcraft? What was the result of these confession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Identify irony on p. 2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How was wealth determined in Sa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What do “Goody” and “Goodman”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Who attended the hangin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Roughly what percentage of Puritans were litera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Why wouldn’t the Puritans offer help to those in n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What was the result of not helping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228600" y="228600"/>
            <a:ext cx="42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"A Deadly Game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rds.yahoo.com/S=96062883/K=dictionary/v=2/SID=e/l=IVS/SIG=12skg66p9/EXP=1106749223/*-http%3A//www.musclecarclub.com/library/dictionary/images/dictionary-1a.jpg"/>
          <p:cNvPicPr/>
          <p:nvPr/>
        </p:nvPicPr>
        <p:blipFill>
          <a:blip r:embed="rId1"/>
          <a:stretch/>
        </p:blipFill>
        <p:spPr>
          <a:xfrm>
            <a:off x="-281952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5257800" y="609480"/>
            <a:ext cx="3276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Vocabula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246200" y="1793880"/>
            <a:ext cx="510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adject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ed apart from concr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ce; theoret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presentation of 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 or principles by charac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28600" y="277920"/>
            <a:ext cx="13007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  <a:ea typeface="Arial Unicode MS"/>
              </a:rPr>
              <a:t>Why was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  <a:ea typeface="Arial Unicode MS"/>
              </a:rPr>
              <a:t>The Crucibl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  <a:ea typeface="Arial Unicode MS"/>
              </a:rPr>
              <a:t> writ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uc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 written by Arthur Miller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3 as an allegory for McCarthyism or the 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ed (second)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Red Sc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iller felt 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convictions to McCarthyism as a resul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 multitude of events that happened in his lif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ing to point out to the world the amaz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 between the unjust Salem Witch Trial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92 and the (second)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Red Sc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1948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6, Miller wro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uc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ake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ful statement about the dangers of hyste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dehumanization that can resul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152280" y="533520"/>
            <a:ext cx="4419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Did you know?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152280" y="2286000"/>
            <a:ext cx="2971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Miller was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married to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legendary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actress....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" name="Picture 5" descr="http://rds.yahoo.com/S=96062883/K=Marilyn+Monroe/v=2/SID=e/l=IVS/SIG=132sh5mfd/EXP=1106744435/*-http%3A//sio.midco.net/dentsamongus/WhyNot/_borders/wallpaper_marilyn_monroe.jpg"/>
          <p:cNvPicPr/>
          <p:nvPr/>
        </p:nvPicPr>
        <p:blipFill>
          <a:blip r:embed="rId1"/>
          <a:stretch/>
        </p:blipFill>
        <p:spPr>
          <a:xfrm>
            <a:off x="4846680" y="353880"/>
            <a:ext cx="4297320" cy="650412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609480" y="5181480"/>
            <a:ext cx="3429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Marilyn Monro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800" y="762120"/>
            <a:ext cx="903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McCarthyism, the United States was terrified of Communism'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uence. Like the witches, communists were seen ingrained with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aspect of society. Miller was sent to jail for with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from the court, namely the names of those assu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communists. Many of Miller’s peers fearing the wrath of the cou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d names of suspected communists in an attempt to s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msel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http://rds.yahoo.com/S=96062883/K=Jail+bars/v=2/SID=e/l=IVS/SIG=126n0120t/EXP=1106745951/*-http%3A//www.bazelon.org/images/1-27-03jailhands.jpg"/>
          <p:cNvPicPr/>
          <p:nvPr/>
        </p:nvPicPr>
        <p:blipFill>
          <a:blip r:embed="rId1"/>
          <a:stretch/>
        </p:blipFill>
        <p:spPr>
          <a:xfrm>
            <a:off x="4114800" y="3352680"/>
            <a:ext cx="4724280" cy="327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rds.yahoo.com/S=96062883/K=Jail+bars/v=2/SID=e/l=IVS/SIG=124o2h5j5/EXP=1106746143/*-http%3A//media.graytvinc.com/images/jail+bars1.jpg"/>
          <p:cNvPicPr/>
          <p:nvPr/>
        </p:nvPicPr>
        <p:blipFill>
          <a:blip r:embed="rId2"/>
          <a:stretch/>
        </p:blipFill>
        <p:spPr>
          <a:xfrm>
            <a:off x="304920" y="365760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2666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971720" y="22874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457200" y="609480"/>
            <a:ext cx="5200560" cy="2282760"/>
            <a:chOff x="457200" y="609480"/>
            <a:chExt cx="5200560" cy="2282760"/>
          </a:xfrm>
        </p:grpSpPr>
        <p:sp>
          <p:nvSpPr>
            <p:cNvPr id="66" name="Rectangle 4"/>
            <p:cNvSpPr/>
            <p:nvPr/>
          </p:nvSpPr>
          <p:spPr>
            <a:xfrm>
              <a:off x="457200" y="609480"/>
              <a:ext cx="52005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457200" y="609480"/>
              <a:ext cx="5200560" cy="22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“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McCarthy's power to stir fears of creeping Communism was not entirely based on illusion, of course; the paranoid, real or pretended, always secretes its pearl around a grain of fact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-Arthur Mill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Rectangle 7"/>
          <p:cNvSpPr/>
          <p:nvPr/>
        </p:nvSpPr>
        <p:spPr>
          <a:xfrm>
            <a:off x="1971720" y="1557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457200" y="3114720"/>
            <a:ext cx="5200560" cy="3362400"/>
            <a:chOff x="457200" y="3114720"/>
            <a:chExt cx="5200560" cy="3362400"/>
          </a:xfrm>
        </p:grpSpPr>
        <p:sp>
          <p:nvSpPr>
            <p:cNvPr id="70" name="Rectangle 8"/>
            <p:cNvSpPr/>
            <p:nvPr/>
          </p:nvSpPr>
          <p:spPr>
            <a:xfrm>
              <a:off x="457200" y="3114720"/>
              <a:ext cx="52005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457200" y="3114720"/>
              <a:ext cx="5200560" cy="336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“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McCarthy—brash and ill-mannered but to many authentic and true—boiled it all down to what anyone could understand: we had "lost China" and would soon lose Europe as well, because the State Department—staffed, of course, under Democratic Presidents—was full of treasonous pro-Soviet intellectuals. It was as simple as that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Arthur Mil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Picture 16" descr="http://rds.yahoo.com/S=96062883/K=Arthur+Miller/v=2/SID=e/TID=I001_70/l=IVS/SIG=12jpub90e/EXP=1105741541/*-http%3A//www.roundabouttheatre.org/fc/summer02/images/miller1.jpg"/>
          <p:cNvPicPr/>
          <p:nvPr/>
        </p:nvPicPr>
        <p:blipFill>
          <a:blip r:embed="rId1"/>
          <a:stretch/>
        </p:blipFill>
        <p:spPr>
          <a:xfrm>
            <a:off x="5791320" y="685800"/>
            <a:ext cx="2949480" cy="5181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7"/>
          <p:cNvSpPr/>
          <p:nvPr/>
        </p:nvSpPr>
        <p:spPr>
          <a:xfrm>
            <a:off x="6249960" y="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Mil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6324480" y="5638680"/>
            <a:ext cx="212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pea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http://rds.yahoo.com/S=96062883/K=dictionary/v=2/SID=e/l=IVS/SIG=12e04gac1/EXP=1106749731/*-http%3A//www.indianahistory.org/lhs/images/OC-Dictionary.jpg"/>
          <p:cNvPicPr/>
          <p:nvPr/>
        </p:nvPicPr>
        <p:blipFill>
          <a:blip r:embed="rId1"/>
          <a:stretch/>
        </p:blipFill>
        <p:spPr>
          <a:xfrm>
            <a:off x="0" y="685800"/>
            <a:ext cx="3733920" cy="5818320"/>
          </a:xfrm>
          <a:prstGeom prst="rect">
            <a:avLst/>
          </a:prstGeom>
          <a:ln w="0">
            <a:noFill/>
          </a:ln>
        </p:spPr>
      </p:pic>
      <p:sp>
        <p:nvSpPr>
          <p:cNvPr id="76" name="WordArt 4"/>
          <p:cNvSpPr txBox="1"/>
          <p:nvPr/>
        </p:nvSpPr>
        <p:spPr>
          <a:xfrm>
            <a:off x="4572000" y="5335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Vocabula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093200" y="1793880"/>
            <a:ext cx="477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of doctrines or beliefs tha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is of a political, economic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enhe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Proper 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 physicist who directed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mos, New Mexico, labora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development of the fir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bom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 or instance that 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n example in dealing with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3:18:16Z</dcterms:created>
  <dc:creator>Administrator</dc:creator>
  <dc:description/>
  <dc:language>en-US</dc:language>
  <cp:lastModifiedBy>Teacher</cp:lastModifiedBy>
  <dcterms:modified xsi:type="dcterms:W3CDTF">2009-09-21T00:22:36Z</dcterms:modified>
  <cp:revision>13</cp:revision>
  <dc:subject/>
  <dc:title>PowerPoint Presentation</dc:title>
</cp:coreProperties>
</file>